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98D8-B1F7-45B0-B2AB-8351D2884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2DC5-C29A-4A46-BA0E-2EFA54318C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9666-B9D8-46FE-B218-4EE2D5F5B7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DCE4-D7F6-42DB-8DAB-52ECF8A597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F6F1-5E93-4AA5-9528-2EA673D1F6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9284-122B-4F31-B4CF-672DB38BFE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2A7A-C4E8-4713-B4C8-19B4BAA5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773-016B-4FAD-A28B-F6719BB4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6CD-2428-4D0F-89EF-7395B0F0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BB1B-C824-424C-BA13-55EF9B3D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E6AF-AE55-4AE6-895A-C3482E1B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A904-780A-4AD8-8316-53995188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F1E4-B0A6-4A6F-B2FC-8037CC5D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A767-F86E-4A21-8EAD-03D1448C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D677-DF3D-441E-B3EA-8BC10D0C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E133-9103-4E42-B027-49938BC3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A539-96F0-45FC-B75A-98A13F6D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157D-D88E-4467-90C6-FF84DB79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3283-E189-4B12-830B-D55074AC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FDFB-1CD1-4A11-93BE-AB38073E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3E49-7EA0-4B5F-9265-CADEDE02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E96A-26A1-45B4-A512-93827FB4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2A1D-4F55-431C-AFE6-356F50BA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97C-EFF1-44EF-8F8D-2D779BAD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9800-1FE5-4B9E-B07C-BFC32945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958E-992A-4EF6-A96F-D4B4561E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FC6F-B916-45E9-B44F-C23522B7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B3A-7092-4926-8D3D-4B4B38A5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1810-0B9A-4577-A77E-4BACEC05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DFE1-1464-40C7-9DE6-42DC87B8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F753-8064-442B-BC6A-F19C7C40B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DB2F-93E2-459C-83E9-D884582CCC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5 Cs of Credi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ING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Ready at the Sound of the B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320" y="17780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1. Name the 5 Cs of Credi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381636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2. Why do creditors use the 5 Cs of Credit?</a:t>
            </a:r>
            <a:br>
              <a:rPr sz="32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2548080" y="2925720"/>
            <a:ext cx="4047840" cy="31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1438200"/>
            <a:ext cx="87627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3. What helps determine your CHARACTER as a borrower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3154320" y="3281400"/>
            <a:ext cx="2362320" cy="35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4. What can a borrower use besides salary to help secure a loan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01004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5. Why is Capacity an important “C” to a creditor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2762280" y="335268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11-17T18:51:08Z</dcterms:modified>
  <cp:revision>138</cp:revision>
  <dc:subject/>
  <dc:title>D/O: TO EXPLAIN AND IDENTIFY PROBLEMS OF ECONOMICS</dc:title>
</cp:coreProperties>
</file>